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DBB-C738-4B6D-A1E6-F0C1F735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55F-01FF-4BCC-BE16-ADDA785E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346-9112-4F56-8C39-D9449B85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2A04-4FAE-453E-BA7A-4F7B19AC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0B6-E870-4A3E-B34D-4CEF5BE0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A9C-D41E-47EF-BCB4-42CA9907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299B-8CBF-455A-9E8E-F951F854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A547-5D67-4F3E-AAC1-E76544F0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124-79E3-4993-9752-9FC15824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C4D2-BBEC-4D5C-8A1B-D6A7FD1D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098-4A42-46F3-A99F-6758700D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9700-C2C4-4830-A845-FC197BD6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7BBC-A6AF-4FB0-9121-763E44B4A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914400" y="1219320"/>
          <a:ext cx="746748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74674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6:12:16Z</dcterms:created>
  <dc:creator>cai3</dc:creator>
  <dc:description/>
  <dc:language>en-US</dc:language>
  <cp:lastModifiedBy>cai3</cp:lastModifiedBy>
  <dcterms:modified xsi:type="dcterms:W3CDTF">2009-09-29T16:13:06Z</dcterms:modified>
  <cp:revision>1</cp:revision>
  <dc:subject/>
  <dc:title>Slide 1</dc:title>
</cp:coreProperties>
</file>